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ADD-A3DE-4CF5-BFA8-69AE3030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50D-AF6F-4AE3-8719-A3512815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B7F-D1BB-4450-9271-F0ABE43D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03A-DC4C-4CC7-AB58-9C22D1E5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673-9F22-4039-9219-5ABAC3F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7F1-C429-468B-9A20-172EDFB7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848-D2BC-4EEC-97F5-DFE58026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540-CB76-47E5-AB69-4CD86545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3DC-2B8D-40CC-BEB9-2C105A65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528-BE7D-46D3-8700-9ED28346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475-28CF-4265-BC3C-67FAA6AE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D70B-F334-4C4B-A52C-BE1B392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2862-E7C9-4E90-95DD-F50DF5C566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04F-44CD-4C2F-94EE-056DCBDEA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emen Bd BT"/>
              </a:rPr>
              <a:t>The French Revolutio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Declaration of Rights of M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Declaration_of_Human_Rights.jpg"/>
          <p:cNvPicPr/>
          <p:nvPr/>
        </p:nvPicPr>
        <p:blipFill>
          <a:blip r:embed="rId2"/>
          <a:stretch/>
        </p:blipFill>
        <p:spPr>
          <a:xfrm>
            <a:off x="228600" y="1066680"/>
            <a:ext cx="4114800" cy="5524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4724280" y="1097280"/>
            <a:ext cx="3886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Some quo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n are born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re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ree and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equal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n rights. So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istinctions can be based onl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ublic ut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aim of every political association is the preservation of the natural rights of man. These rights are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libert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propert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esistance to oppressio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John Paul Mar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wspaper editor for “The People’s Frien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volutionary- supporter of Robespier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led for all traitors to the Revolution to be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Marat-004.jpg"/>
          <p:cNvPicPr/>
          <p:nvPr/>
        </p:nvPicPr>
        <p:blipFill>
          <a:blip r:embed="rId2"/>
          <a:stretch/>
        </p:blipFill>
        <p:spPr>
          <a:xfrm>
            <a:off x="4419720" y="1371600"/>
            <a:ext cx="3895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arch on Versail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omen march to protest the rising price of br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o to the palace to “bring the problems to the kin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Bring Louis, Marie &amp; royal family back to Par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diamond-Oct_5th.jpg"/>
          <p:cNvPicPr/>
          <p:nvPr/>
        </p:nvPicPr>
        <p:blipFill>
          <a:blip r:embed="rId2"/>
          <a:stretch/>
        </p:blipFill>
        <p:spPr>
          <a:xfrm>
            <a:off x="4114800" y="1752480"/>
            <a:ext cx="4795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ligh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4120" y="14475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ouis &amp; Family in Par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ecide to make a “break” for the Austrian bor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aught by Revolutionar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ragged back to Par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map.bmp"/>
          <p:cNvPicPr/>
          <p:nvPr/>
        </p:nvPicPr>
        <p:blipFill>
          <a:blip r:embed="rId2"/>
          <a:stretch/>
        </p:blipFill>
        <p:spPr>
          <a:xfrm>
            <a:off x="112680" y="1523880"/>
            <a:ext cx="5221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Guillot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guillotine.gif"/>
          <p:cNvPicPr/>
          <p:nvPr/>
        </p:nvPicPr>
        <p:blipFill>
          <a:blip r:embed="rId2"/>
          <a:stretch/>
        </p:blipFill>
        <p:spPr>
          <a:xfrm>
            <a:off x="4788000" y="380880"/>
            <a:ext cx="4356000" cy="6477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Guillotine_the_Disinfo_Agents.jpg"/>
          <p:cNvPicPr/>
          <p:nvPr/>
        </p:nvPicPr>
        <p:blipFill>
          <a:blip r:embed="rId3"/>
          <a:stretch/>
        </p:blipFill>
        <p:spPr>
          <a:xfrm>
            <a:off x="457200" y="1343160"/>
            <a:ext cx="4267080" cy="3533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325440" y="5181480"/>
            <a:ext cx="47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National Raz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Terr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pring 1793-Summer 179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voked by Robespierre &amp; Mar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Over 800 executions per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ousands guillotined without fair trials– said to be “traitors” to the Re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robes.jpg"/>
          <p:cNvPicPr/>
          <p:nvPr/>
        </p:nvPicPr>
        <p:blipFill>
          <a:blip r:embed="rId2"/>
          <a:stretch/>
        </p:blipFill>
        <p:spPr>
          <a:xfrm>
            <a:off x="5029200" y="1219320"/>
            <a:ext cx="3660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obespierre’s Downf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7960" y="144792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ptured by National Assemb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mpris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ailed Suicide Attem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uillot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evolution ate it’s own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robespierre_death.jpg"/>
          <p:cNvPicPr/>
          <p:nvPr/>
        </p:nvPicPr>
        <p:blipFill>
          <a:blip r:embed="rId2"/>
          <a:stretch/>
        </p:blipFill>
        <p:spPr>
          <a:xfrm>
            <a:off x="762120" y="1371600"/>
            <a:ext cx="37018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French Monarchy- King &amp; Qu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3" descr="louis-XVI.png"/>
          <p:cNvPicPr/>
          <p:nvPr/>
        </p:nvPicPr>
        <p:blipFill>
          <a:blip r:embed="rId2"/>
          <a:stretch/>
        </p:blipFill>
        <p:spPr>
          <a:xfrm>
            <a:off x="457200" y="1122480"/>
            <a:ext cx="3505320" cy="4440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33520" y="5634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uis XVI (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of France &amp; Marie Antoinette of Aust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untitled.bmp"/>
          <p:cNvPicPr/>
          <p:nvPr/>
        </p:nvPicPr>
        <p:blipFill>
          <a:blip r:embed="rId3"/>
          <a:stretch/>
        </p:blipFill>
        <p:spPr>
          <a:xfrm>
            <a:off x="5078520" y="1119240"/>
            <a:ext cx="3456000" cy="4443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082240" y="609588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Help us Lord, for we reign too young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palace-of-versailles-3.jpg"/>
          <p:cNvPicPr/>
          <p:nvPr/>
        </p:nvPicPr>
        <p:blipFill>
          <a:blip r:embed="rId2"/>
          <a:stretch/>
        </p:blipFill>
        <p:spPr>
          <a:xfrm rot="20992200">
            <a:off x="441000" y="833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versailles-palace-picture-3.jpg"/>
          <p:cNvPicPr/>
          <p:nvPr/>
        </p:nvPicPr>
        <p:blipFill>
          <a:blip r:embed="rId3"/>
          <a:stretch/>
        </p:blipFill>
        <p:spPr>
          <a:xfrm>
            <a:off x="0" y="3657600"/>
            <a:ext cx="4762440" cy="296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versailles-palace-picture.jpg"/>
          <p:cNvPicPr/>
          <p:nvPr/>
        </p:nvPicPr>
        <p:blipFill>
          <a:blip r:embed="rId4"/>
          <a:stretch/>
        </p:blipFill>
        <p:spPr>
          <a:xfrm rot="581400">
            <a:off x="5095440" y="798120"/>
            <a:ext cx="3765600" cy="256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versailles-palace-picture-4.jpg"/>
          <p:cNvPicPr/>
          <p:nvPr/>
        </p:nvPicPr>
        <p:blipFill>
          <a:blip r:embed="rId5"/>
          <a:stretch/>
        </p:blipFill>
        <p:spPr>
          <a:xfrm>
            <a:off x="5105520" y="3124080"/>
            <a:ext cx="27432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lecomte-versailles-1715.jpg"/>
          <p:cNvPicPr/>
          <p:nvPr/>
        </p:nvPicPr>
        <p:blipFill>
          <a:blip r:embed="rId2"/>
          <a:stretch/>
        </p:blipFill>
        <p:spPr>
          <a:xfrm>
            <a:off x="108000" y="152280"/>
            <a:ext cx="8781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iddle Age Society: 3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sosceles Triangle 3"/>
          <p:cNvSpPr/>
          <p:nvPr/>
        </p:nvSpPr>
        <p:spPr>
          <a:xfrm>
            <a:off x="990720" y="1066680"/>
            <a:ext cx="6629400" cy="5486400"/>
          </a:xfrm>
          <a:prstGeom prst="triangle">
            <a:avLst>
              <a:gd name="adj" fmla="val 4972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4475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No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ler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easa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5"/>
          <p:cNvSpPr/>
          <p:nvPr/>
        </p:nvSpPr>
        <p:spPr>
          <a:xfrm>
            <a:off x="3657600" y="2133720"/>
            <a:ext cx="1219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7"/>
          <p:cNvSpPr/>
          <p:nvPr/>
        </p:nvSpPr>
        <p:spPr>
          <a:xfrm>
            <a:off x="3124080" y="2971800"/>
            <a:ext cx="2286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343040" y="167652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igh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taxe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on peas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Price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of bread r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ld wi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od shortages- people cannot feed their fami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blems Outside 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Famine1.jpg"/>
          <p:cNvPicPr/>
          <p:nvPr/>
        </p:nvPicPr>
        <p:blipFill>
          <a:blip r:embed="rId2"/>
          <a:stretch/>
        </p:blipFill>
        <p:spPr>
          <a:xfrm>
            <a:off x="380880" y="1295280"/>
            <a:ext cx="313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Jacques Nec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amed Louis’s Minister of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ll liked by the people, especially of the low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Necker,_Jacques_-_Duplessis.jpg"/>
          <p:cNvPicPr/>
          <p:nvPr/>
        </p:nvPicPr>
        <p:blipFill>
          <a:blip r:embed="rId2"/>
          <a:stretch/>
        </p:blipFill>
        <p:spPr>
          <a:xfrm>
            <a:off x="4495680" y="1219320"/>
            <a:ext cx="4154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aximilian Robespier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52880" y="1447920"/>
            <a:ext cx="335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volution’s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awyer, but from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E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robespierre.bmp"/>
          <p:cNvPicPr/>
          <p:nvPr/>
        </p:nvPicPr>
        <p:blipFill>
          <a:blip r:embed="rId2"/>
          <a:stretch/>
        </p:blipFill>
        <p:spPr>
          <a:xfrm>
            <a:off x="304920" y="1301760"/>
            <a:ext cx="41907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torming of the Basti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prisedelabastille.jpg"/>
          <p:cNvPicPr/>
          <p:nvPr/>
        </p:nvPicPr>
        <p:blipFill>
          <a:blip r:embed="rId2"/>
          <a:stretch/>
        </p:blipFill>
        <p:spPr>
          <a:xfrm>
            <a:off x="152280" y="1219320"/>
            <a:ext cx="4114800" cy="308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jpg_bastille.jpg"/>
          <p:cNvPicPr/>
          <p:nvPr/>
        </p:nvPicPr>
        <p:blipFill>
          <a:blip r:embed="rId3"/>
          <a:stretch/>
        </p:blipFill>
        <p:spPr>
          <a:xfrm>
            <a:off x="4338720" y="2921040"/>
            <a:ext cx="48052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2:29:17Z</dcterms:created>
  <dc:creator> </dc:creator>
  <dc:description/>
  <dc:language>en-US</dc:language>
  <cp:lastModifiedBy>Amanda Hulme</cp:lastModifiedBy>
  <dcterms:modified xsi:type="dcterms:W3CDTF">2011-02-15T14:56:27Z</dcterms:modified>
  <cp:revision>18</cp:revision>
  <dc:subject/>
  <dc:title>The French Revolution</dc:title>
</cp:coreProperties>
</file>